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projctor.wav" ContentType="audio/x-wav"/>
  <Override PartName="/ppt/media/image27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10.wmf" ContentType="image/x-wmf"/>
  <Override PartName="/ppt/media/image47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EXPLODE.WAV" ContentType="audio/x-wav"/>
  <Override PartName="/ppt/media/image53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driveby.wav" ContentType="audio/x-wav"/>
  <Override PartName="/ppt/media/image20.wmf" ContentType="image/x-wmf"/>
  <Override PartName="/ppt/media/CAMERA.WAV" ContentType="audio/x-wav"/>
  <Override PartName="/ppt/media/image61.wmf" ContentType="image/x-wmf"/>
  <Override PartName="/ppt/media/image23.wmf" ContentType="image/x-wmf"/>
  <Override PartName="/ppt/media/image60.wmf" ContentType="image/x-wmf"/>
  <Override PartName="/ppt/media/image58.wmf" ContentType="image/x-wmf"/>
  <Override PartName="/ppt/media/image21.wmf" ContentType="image/x-wmf"/>
  <Override PartName="/ppt/media/image56.wmf" ContentType="image/x-wmf"/>
  <Override PartName="/ppt/media/image55.wmf" ContentType="image/x-wmf"/>
  <Override PartName="/ppt/media/drumroll.wav" ContentType="audio/x-wav"/>
  <Override PartName="/ppt/media/image62.wmf" ContentType="image/x-wmf"/>
  <Override PartName="/ppt/media/cashreg.wav" ContentType="audio/x-wav"/>
  <Override PartName="/ppt/media/gunshot.wav" ContentType="audio/x-wav"/>
  <Override PartName="/ppt/media/image25.wmf" ContentType="image/x-wmf"/>
  <Override PartName="/ppt/media/image5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glass.wav" ContentType="audio/x-wav"/>
  <Override PartName="/ppt/media/image36.wmf" ContentType="image/x-wmf"/>
  <Override PartName="/ppt/media/image18.wmf" ContentType="image/x-wmf"/>
  <Override PartName="/ppt/media/image6.wmf" ContentType="image/x-wmf"/>
  <Override PartName="/ppt/media/image49.wmf" ContentType="image/x-wmf"/>
  <Override PartName="/ppt/media/CHIMES.WAV" ContentType="audio/x-wav"/>
  <Override PartName="/ppt/media/image2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1.wmf" ContentType="image/x-wmf"/>
  <Override PartName="/ppt/media/image31.wmf" ContentType="image/x-wmf"/>
  <Override PartName="/ppt/media/image9.wmf" ContentType="image/x-wmf"/>
  <Override PartName="/ppt/media/image39.wmf" ContentType="image/x-wmf"/>
  <Override PartName="/ppt/media/image4.wmf" ContentType="image/x-wmf"/>
  <Override PartName="/ppt/media/image16.wmf" ContentType="image/x-wmf"/>
  <Override PartName="/ppt/media/WHOOSH.WAV" ContentType="audio/x-wav"/>
  <Override PartName="/ppt/media/image29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ADF-DD5D-4396-9838-7BB37D84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FA0-0CB1-40C0-BD5E-17B90C8A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E2F-C8CB-444B-8AC0-D0A4DC19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400-6DF3-497E-92E5-F6008B7C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08B-7803-4FF4-A5D6-7AA12EB3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A93-7C7E-4373-9DF2-0C3D288D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649-38F7-449B-B34A-F6D27636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888-E946-48BD-8F68-0194FB2A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B8A-73CE-431C-83E7-455F6941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562-413D-414F-8B6B-F269849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3B5-311C-488B-8C9B-DF9B4A0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854-4704-4CA5-9B2D-12176033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FF8E-25F2-403A-BF2C-C0B8CA18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audio" Target="../media/WHOOSH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EXPLODE.WAV"/><Relationship Id="rId30" Type="http://schemas.openxmlformats.org/officeDocument/2006/relationships/audio" Target="../media/projctor.wav"/><Relationship Id="rId31" Type="http://schemas.openxmlformats.org/officeDocument/2006/relationships/audio" Target="../media/projctor.wav"/><Relationship Id="rId32" Type="http://schemas.openxmlformats.org/officeDocument/2006/relationships/audio" Target="../media/projctor.wav"/><Relationship Id="rId33" Type="http://schemas.openxmlformats.org/officeDocument/2006/relationships/audio" Target="../media/EXPLODE.WAV"/><Relationship Id="rId34" Type="http://schemas.openxmlformats.org/officeDocument/2006/relationships/audio" Target="../media/driveby.wav"/><Relationship Id="rId35" Type="http://schemas.openxmlformats.org/officeDocument/2006/relationships/audio" Target="../media/driveby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audio" Target="../media/EXPLODE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driveby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audio" Target="../media/EXPLODE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EXPLODE.WAV"/><Relationship Id="rId22" Type="http://schemas.openxmlformats.org/officeDocument/2006/relationships/audio" Target="../media/EXPLODE.WAV"/><Relationship Id="rId23" Type="http://schemas.openxmlformats.org/officeDocument/2006/relationships/audio" Target="../media/driveby.wav"/><Relationship Id="rId24" Type="http://schemas.openxmlformats.org/officeDocument/2006/relationships/audio" Target="../media/driveby.wav"/><Relationship Id="rId25" Type="http://schemas.openxmlformats.org/officeDocument/2006/relationships/audio" Target="../media/EXPLODE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driveby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audio" Target="../media/CHIMES.WAV"/><Relationship Id="rId26" Type="http://schemas.openxmlformats.org/officeDocument/2006/relationships/audio" Target="../media/EXPLODE.WAV"/><Relationship Id="rId27" Type="http://schemas.openxmlformats.org/officeDocument/2006/relationships/audio" Target="../media/glass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driveby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audio" Target="../media/EXPLODE.WAV"/><Relationship Id="rId32" Type="http://schemas.openxmlformats.org/officeDocument/2006/relationships/audio" Target="../media/glass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driveby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audio" Target="../media/EXPLODE.WAV"/><Relationship Id="rId30" Type="http://schemas.openxmlformats.org/officeDocument/2006/relationships/audio" Target="../media/glass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LASER.WAV"/><Relationship Id="rId43" Type="http://schemas.openxmlformats.org/officeDocument/2006/relationships/audio" Target="../media/driveby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audio" Target="../media/gunshot.wav"/><Relationship Id="rId26" Type="http://schemas.openxmlformats.org/officeDocument/2006/relationships/audio" Target="../media/cashreg.wav"/><Relationship Id="rId27" Type="http://schemas.openxmlformats.org/officeDocument/2006/relationships/audio" Target="../media/drumroll.wav"/><Relationship Id="rId28" Type="http://schemas.openxmlformats.org/officeDocument/2006/relationships/audio" Target="../media/EXPLODE.WAV"/><Relationship Id="rId29" Type="http://schemas.openxmlformats.org/officeDocument/2006/relationships/audio" Target="../media/LASER.WAV"/><Relationship Id="rId30" Type="http://schemas.openxmlformats.org/officeDocument/2006/relationships/audio" Target="../media/LASER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driveby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LASER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EXPLODE.WAV"/><Relationship Id="rId4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audio" Target="../media/EXPLODE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EXPLODE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EXPLODE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EXPLODE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3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tandard Form of a Linear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equation in standard form with integer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06640" y="2719440"/>
          <a:ext cx="440208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719440"/>
                    <a:ext cx="440208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544840" y="3294000"/>
                <a:ext cx="731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" name=""/>
          <p:cNvGraphicFramePr/>
          <p:nvPr/>
        </p:nvGraphicFramePr>
        <p:xfrm>
          <a:off x="2743200" y="4191120"/>
          <a:ext cx="13366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191120"/>
                    <a:ext cx="13366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962520" y="4191120"/>
          <a:ext cx="82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9112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81280" y="4724280"/>
          <a:ext cx="1193760" cy="76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724280"/>
                    <a:ext cx="11937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438280" y="4724280"/>
          <a:ext cx="1193760" cy="76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4724280"/>
                    <a:ext cx="1193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371600" y="5410080"/>
            <a:ext cx="45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863800" y="5486400"/>
          <a:ext cx="6685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63800" y="5486400"/>
                    <a:ext cx="668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606840" y="5511960"/>
          <a:ext cx="133812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6840" y="5511960"/>
                    <a:ext cx="133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876920" y="5486400"/>
          <a:ext cx="1116000" cy="719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5486400"/>
                    <a:ext cx="11160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B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4191120"/>
          <a:ext cx="10792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8320" y="4191120"/>
                    <a:ext cx="1079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295280" y="5996160"/>
          <a:ext cx="3618000" cy="86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996160"/>
                    <a:ext cx="3618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62520" y="3222720"/>
                <a:ext cx="7617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73840" y="3146400"/>
                <a:ext cx="7318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 flipV="1">
            <a:off x="3962520" y="327672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2000" y="373392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48320" y="4724280"/>
          <a:ext cx="109044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48320" y="4724280"/>
                    <a:ext cx="1090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371600" y="4724280"/>
          <a:ext cx="109044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371600" y="4724280"/>
                    <a:ext cx="10904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79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tandard Form of a Linear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equation in standard form with integer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828800" y="3352680"/>
          <a:ext cx="38908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52680"/>
                    <a:ext cx="38908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789440" y="4138560"/>
          <a:ext cx="933480" cy="6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9440" y="4138560"/>
                    <a:ext cx="9334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556000" y="4113360"/>
          <a:ext cx="934920" cy="66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113360"/>
                    <a:ext cx="9349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60440" y="4748040"/>
            <a:ext cx="45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87680" y="4851360"/>
          <a:ext cx="7128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87680" y="4851360"/>
                    <a:ext cx="712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352680" y="4876920"/>
          <a:ext cx="133848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4876920"/>
                    <a:ext cx="133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622760" y="4927680"/>
          <a:ext cx="87300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2760" y="4927680"/>
                    <a:ext cx="873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52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B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7920" y="5486400"/>
          <a:ext cx="3441600" cy="861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5486400"/>
                    <a:ext cx="34416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722760" y="4062240"/>
          <a:ext cx="830160" cy="61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22760" y="4062240"/>
                    <a:ext cx="8301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88960" y="4062240"/>
          <a:ext cx="831960" cy="613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88960" y="4062240"/>
                    <a:ext cx="831960" cy="6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04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tandard Form of a Linear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equation in standard form with integer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31840" y="2719440"/>
          <a:ext cx="435132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2719440"/>
                    <a:ext cx="435132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22520" y="3124080"/>
                <a:ext cx="9572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2743200" y="4191120"/>
          <a:ext cx="133668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191120"/>
                    <a:ext cx="13366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62520" y="4191120"/>
          <a:ext cx="82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19112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52480" y="4724280"/>
          <a:ext cx="882720" cy="56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4724280"/>
                    <a:ext cx="882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724280" y="4724280"/>
          <a:ext cx="882720" cy="5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4724280"/>
                    <a:ext cx="882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5410080"/>
            <a:ext cx="4572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133720" y="5486400"/>
          <a:ext cx="1514520" cy="76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5486400"/>
                    <a:ext cx="1514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632040" y="5511960"/>
          <a:ext cx="128592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2040" y="5511960"/>
                    <a:ext cx="1285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3352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+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B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er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r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49840" y="4241880"/>
          <a:ext cx="874800" cy="50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49840" y="4241880"/>
                    <a:ext cx="874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94120" y="3124080"/>
                <a:ext cx="9572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952960" y="3048120"/>
                <a:ext cx="955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)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 flipV="1">
            <a:off x="6477120" y="320040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86400" y="3733920"/>
            <a:ext cx="380880" cy="457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standard form of the equation of the line that passes through the given point and has the given s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80880" y="2057400"/>
                <a:ext cx="46576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4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914400" y="2987640"/>
                <a:ext cx="4800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1905120" y="3124080"/>
          <a:ext cx="5126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24080"/>
                    <a:ext cx="512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48120" y="3124080"/>
          <a:ext cx="8730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029200" y="3124080"/>
          <a:ext cx="4111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124080"/>
                    <a:ext cx="411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08900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95480" y="3809880"/>
          <a:ext cx="118440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1184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33520" y="4419720"/>
          <a:ext cx="1193760" cy="61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4419720"/>
                    <a:ext cx="11937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895480" y="4419720"/>
          <a:ext cx="11937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4419720"/>
                    <a:ext cx="11937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114560" y="502920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2120" y="5029200"/>
          <a:ext cx="1747800" cy="87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5029200"/>
                    <a:ext cx="17478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438280" y="5105520"/>
          <a:ext cx="9781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38280" y="5105520"/>
                    <a:ext cx="97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962520" y="3809880"/>
          <a:ext cx="876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600200" y="4419720"/>
          <a:ext cx="882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00200" y="441972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962520" y="4419720"/>
          <a:ext cx="8823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962520" y="4419720"/>
                    <a:ext cx="88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standard form of the equation of the line that passes through the given point and has the given s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62120" y="1981080"/>
                <a:ext cx="465768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71600" y="2979720"/>
                <a:ext cx="5105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3" name=""/>
          <p:cNvGraphicFramePr/>
          <p:nvPr/>
        </p:nvGraphicFramePr>
        <p:xfrm>
          <a:off x="2468520" y="3124080"/>
          <a:ext cx="41112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8520" y="3124080"/>
                    <a:ext cx="411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919680" y="3124080"/>
          <a:ext cx="4618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9680" y="3124080"/>
                    <a:ext cx="461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521320" y="3124080"/>
          <a:ext cx="8222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21320" y="3124080"/>
                    <a:ext cx="82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82720" y="3809880"/>
          <a:ext cx="180036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2720" y="3809880"/>
                    <a:ext cx="1800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718080" y="3809880"/>
          <a:ext cx="8236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18080" y="3809880"/>
                    <a:ext cx="823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614760" y="4419720"/>
          <a:ext cx="933480" cy="66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4760" y="4419720"/>
                    <a:ext cx="93348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05080" y="4419720"/>
          <a:ext cx="93348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5080" y="4419720"/>
                    <a:ext cx="9334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1757520" y="502920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38240" y="5029200"/>
          <a:ext cx="1131840" cy="70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38240" y="5029200"/>
                    <a:ext cx="11318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81240" y="5029200"/>
          <a:ext cx="221292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81240" y="5029200"/>
                    <a:ext cx="2212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38640" y="3124080"/>
          <a:ext cx="66060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38640" y="3124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484960" y="3151080"/>
          <a:ext cx="660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84960" y="3151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05480" y="3809880"/>
          <a:ext cx="87624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0548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605480" y="4343400"/>
          <a:ext cx="880920" cy="614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05480" y="4343400"/>
                    <a:ext cx="880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319480" y="4343400"/>
          <a:ext cx="880920" cy="614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19480" y="4343400"/>
                    <a:ext cx="880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43000" y="5715000"/>
          <a:ext cx="3733920" cy="861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43000" y="5715000"/>
                    <a:ext cx="373392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6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the standard form of the equation of the line that passes through the given point and has the given slo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71680" y="1967040"/>
                <a:ext cx="50670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420920" y="2976480"/>
                <a:ext cx="5046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8" name=""/>
          <p:cNvGraphicFramePr/>
          <p:nvPr/>
        </p:nvGraphicFramePr>
        <p:xfrm>
          <a:off x="2373480" y="3097080"/>
          <a:ext cx="8744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3097080"/>
                    <a:ext cx="874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3693960" y="3111480"/>
          <a:ext cx="7700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3960" y="3111480"/>
                    <a:ext cx="770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49920" y="3110040"/>
          <a:ext cx="4636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9920" y="3110040"/>
                    <a:ext cx="46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73196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3196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657600" y="3886200"/>
          <a:ext cx="8762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3886200"/>
                    <a:ext cx="876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244520" y="4394160"/>
          <a:ext cx="88272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44520" y="4394160"/>
                    <a:ext cx="882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581280" y="4419720"/>
          <a:ext cx="881280" cy="56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4419720"/>
                    <a:ext cx="88128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757520" y="502920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752480" y="5105520"/>
          <a:ext cx="1440000" cy="82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52480" y="5105520"/>
                    <a:ext cx="144000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0400" y="5105520"/>
          <a:ext cx="97776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5105520"/>
                    <a:ext cx="977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917720" y="3124080"/>
          <a:ext cx="660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17720" y="312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327400" y="3137040"/>
          <a:ext cx="660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27400" y="3137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630680" y="3809880"/>
          <a:ext cx="82548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30680" y="3809880"/>
                    <a:ext cx="825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2209680" y="4343400"/>
          <a:ext cx="881280" cy="614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209680" y="4343400"/>
                    <a:ext cx="881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648320" y="4343400"/>
          <a:ext cx="880920" cy="614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8320" y="4343400"/>
                    <a:ext cx="8809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Copy and complete the table using the linear model in Exampl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4920" y="5181480"/>
            <a:ext cx="8478720" cy="1447920"/>
            <a:chOff x="304920" y="5181480"/>
            <a:chExt cx="8478720" cy="1447920"/>
          </a:xfrm>
        </p:grpSpPr>
        <p:sp>
          <p:nvSpPr>
            <p:cNvPr id="233" name=""/>
            <p:cNvSpPr/>
            <p:nvPr/>
          </p:nvSpPr>
          <p:spPr>
            <a:xfrm>
              <a:off x="325440" y="5181480"/>
              <a:ext cx="845784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4920" y="5868720"/>
              <a:ext cx="847872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0180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4040" y="525780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eaches (lb),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720" y="5943600"/>
              <a:ext cx="29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lueberries (lb), 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25840" y="5181480"/>
              <a:ext cx="50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         2         4         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688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412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120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2" name=""/>
          <p:cNvGraphicFramePr/>
          <p:nvPr/>
        </p:nvGraphicFramePr>
        <p:xfrm>
          <a:off x="2062080" y="1803240"/>
          <a:ext cx="38577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803240"/>
                    <a:ext cx="38577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729320" y="2413080"/>
          <a:ext cx="1868400" cy="61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9320" y="2413080"/>
                    <a:ext cx="18684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681200" y="2336760"/>
          <a:ext cx="186840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0" y="2336760"/>
                    <a:ext cx="1868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494080" y="299736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52720" y="3051000"/>
          <a:ext cx="75744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2720" y="3051000"/>
                    <a:ext cx="757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618080" y="3076560"/>
          <a:ext cx="23144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080" y="3076560"/>
                    <a:ext cx="231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751800" y="3076560"/>
          <a:ext cx="1114200" cy="57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51800" y="3076560"/>
                    <a:ext cx="11142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3886200" y="3657600"/>
          <a:ext cx="5191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65760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867280" y="3657600"/>
          <a:ext cx="51912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365760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751200" y="36576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62520" y="3657600"/>
            <a:ext cx="6638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238880" y="3657600"/>
          <a:ext cx="5191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8880" y="3657600"/>
                    <a:ext cx="5191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7134120" y="3657600"/>
            <a:ext cx="6638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733920" y="4419720"/>
          <a:ext cx="1166760" cy="74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441972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876920" y="4343400"/>
          <a:ext cx="2133360" cy="601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4343400"/>
                    <a:ext cx="21333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934320" y="4343400"/>
          <a:ext cx="831600" cy="617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4343400"/>
                    <a:ext cx="8316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7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Copy and complete the table using the linear model in Exampl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04920" y="5181480"/>
            <a:ext cx="8478720" cy="1447920"/>
            <a:chOff x="304920" y="5181480"/>
            <a:chExt cx="8478720" cy="1447920"/>
          </a:xfrm>
        </p:grpSpPr>
        <p:sp>
          <p:nvSpPr>
            <p:cNvPr id="276" name=""/>
            <p:cNvSpPr/>
            <p:nvPr/>
          </p:nvSpPr>
          <p:spPr>
            <a:xfrm>
              <a:off x="325440" y="5181480"/>
              <a:ext cx="8457840" cy="1447920"/>
            </a:xfrm>
            <a:prstGeom prst="rect">
              <a:avLst/>
            </a:prstGeom>
            <a:solidFill>
              <a:srgbClr val="ffffcc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4920" y="5868720"/>
              <a:ext cx="8478720" cy="24120"/>
            </a:xfrm>
            <a:custGeom>
              <a:avLst/>
              <a:gdLst/>
              <a:ahLst/>
              <a:rect l="l" t="t" r="r" b="b"/>
              <a:pathLst>
                <a:path w="5341" h="15">
                  <a:moveTo>
                    <a:pt x="0" y="15"/>
                  </a:moveTo>
                  <a:lnTo>
                    <a:pt x="534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180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4040" y="525780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eaches (lb), 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7720" y="5943600"/>
              <a:ext cx="29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lueberries (lb), 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25840" y="5181480"/>
              <a:ext cx="50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         2         4         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88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6412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12040" y="5181480"/>
              <a:ext cx="0" cy="14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986200" y="2481120"/>
                <a:ext cx="3213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6" name=""/>
          <p:cNvGraphicFramePr/>
          <p:nvPr/>
        </p:nvGraphicFramePr>
        <p:xfrm>
          <a:off x="6172200" y="2514600"/>
          <a:ext cx="163980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514600"/>
                    <a:ext cx="16398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873600" y="5943600"/>
          <a:ext cx="42228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3600" y="5943600"/>
                    <a:ext cx="422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17800" y="3116160"/>
                <a:ext cx="323676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1" name=""/>
          <p:cNvGraphicFramePr/>
          <p:nvPr/>
        </p:nvGraphicFramePr>
        <p:xfrm>
          <a:off x="6095880" y="3124080"/>
          <a:ext cx="257832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124080"/>
                    <a:ext cx="25783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765680" y="5943600"/>
          <a:ext cx="1076400" cy="56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5680" y="5943600"/>
                    <a:ext cx="10764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984400" y="3733920"/>
                <a:ext cx="3162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6095880" y="3733920"/>
          <a:ext cx="25750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733920"/>
                    <a:ext cx="2575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6248520" y="5943600"/>
          <a:ext cx="982440" cy="56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5943600"/>
                    <a:ext cx="9824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025800" y="4346640"/>
                <a:ext cx="3168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1" name=""/>
          <p:cNvGraphicFramePr/>
          <p:nvPr/>
        </p:nvGraphicFramePr>
        <p:xfrm>
          <a:off x="6095880" y="4343400"/>
          <a:ext cx="1963800" cy="56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4343400"/>
                    <a:ext cx="19638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848720" y="5943600"/>
          <a:ext cx="420480" cy="563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848720" y="5943600"/>
                    <a:ext cx="4204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2614680" y="1523880"/>
          <a:ext cx="3962160" cy="87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14680" y="1523880"/>
                    <a:ext cx="39621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10-28T12:29:54Z</dcterms:modified>
  <cp:revision>188</cp:revision>
  <dc:subject/>
  <dc:title>No Slide Title</dc:title>
</cp:coreProperties>
</file>